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21.gif" ContentType="image/gif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525-C75F-45DF-B78E-A06C2F7C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111-73E7-4811-91D2-9659174C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CD9F-2623-41B2-B37C-93A29AD6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811-A35C-4740-892A-AE4FD62C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E55-A7C7-4F67-BF92-4FA4624B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D420-F821-4CD9-89C1-35D0B221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53D-6002-400B-9F03-2C9035CC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C1D6-FEB5-4E24-B357-872B7F3CE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B375-B1DD-407C-B53B-D5EC3CD2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0FF0-50F3-4178-9B5B-E45D10B4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D71-15FA-466B-AD33-65EE149C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CCD-D020-4F91-BC5B-5D9E8EC1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0B05-CBC1-4574-9677-CBE5C4EDBD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tvoyna.ru/voina.htm" TargetMode="External"/><Relationship Id="rId2" Type="http://schemas.openxmlformats.org/officeDocument/2006/relationships/hyperlink" Target="http://stat17.privet.ru/lr/091351af80f2cbd5254237b67c110c66" TargetMode="External"/><Relationship Id="rId3" Type="http://schemas.openxmlformats.org/officeDocument/2006/relationships/hyperlink" Target="http://im7-tub.yandex.net/i?id=30045746-22-24" TargetMode="External"/><Relationship Id="rId4" Type="http://schemas.openxmlformats.org/officeDocument/2006/relationships/hyperlink" Target="http://backup.flot.com/upload/blog/267/yungi11_8.jpg" TargetMode="External"/><Relationship Id="rId5" Type="http://schemas.openxmlformats.org/officeDocument/2006/relationships/hyperlink" Target="http://alter.gorod.tomsk.ru/uploads/34629/1274034986/3.jpg" TargetMode="External"/><Relationship Id="rId6" Type="http://schemas.openxmlformats.org/officeDocument/2006/relationships/hyperlink" Target="http://s48.radikal.ru/i119/1010/5e/31c96a5b2231.jpg" TargetMode="External"/><Relationship Id="rId7" Type="http://schemas.openxmlformats.org/officeDocument/2006/relationships/hyperlink" Target="http://s007.radikal.ru/i300/1011/51/7d17f075434d.jpg" TargetMode="External"/><Relationship Id="rId8" Type="http://schemas.openxmlformats.org/officeDocument/2006/relationships/hyperlink" Target="http://www.davno.ru/posters/1942/img/poster-1942h.jpg" TargetMode="External"/><Relationship Id="rId9" Type="http://schemas.openxmlformats.org/officeDocument/2006/relationships/hyperlink" Target="http://www.vkinobudke.ru/uploads/posts/2010-11/1289407185_12_1.jpg" TargetMode="External"/><Relationship Id="rId10" Type="http://schemas.openxmlformats.org/officeDocument/2006/relationships/hyperlink" Target="http://young.rzd.ru/dbmm/images/41/4080/1196513" TargetMode="External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2/151/2009151/f_9835168.jpg" TargetMode="External"/><Relationship Id="rId2" Type="http://schemas.openxmlformats.org/officeDocument/2006/relationships/hyperlink" Target="http://static.diary.ru/userdir/2/7/7/5/277573/41356204.jpg" TargetMode="External"/><Relationship Id="rId3" Type="http://schemas.openxmlformats.org/officeDocument/2006/relationships/hyperlink" Target="http://s51.radikal.ru/i131/1008/00/efaf29245e9c.jpg" TargetMode="External"/><Relationship Id="rId4" Type="http://schemas.openxmlformats.org/officeDocument/2006/relationships/hyperlink" Target="http://img0.liveinternet.ru/images/attach/c/2/65/396/65396297_1287263467_okop.jpg" TargetMode="External"/><Relationship Id="rId5" Type="http://schemas.openxmlformats.org/officeDocument/2006/relationships/hyperlink" Target="http://www.print.spb.ru/img/wysiwyg/orders/kutuzov/stalingrad/594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ликая Отечественная войн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941 - 19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091351af80f2cbd5254237b67c110c66"/>
          <p:cNvPicPr/>
          <p:nvPr/>
        </p:nvPicPr>
        <p:blipFill>
          <a:blip r:embed="rId1"/>
          <a:stretch/>
        </p:blipFill>
        <p:spPr>
          <a:xfrm>
            <a:off x="250920" y="26398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229280" cy="604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1896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395280" y="4173480"/>
            <a:ext cx="3456000" cy="227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4597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нь Победы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rajon_gerdevka2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инута молч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века, через год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ех, кто уже не придет никогда,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ю ценою завоевано счастье, – заклинаю,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. Рождеств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otvoyna.ru/voin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tvoyna.ru/partiz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чный огонь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stat17.privet.ru/lr/091351af80f2cbd5254237b67c110c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ада Ленинграда - 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im7-tub.yandex.net/i?id=30045746-22-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ёты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http://backup.flot.com/upload/blog/267/yungi11_8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ылу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http://alter.gorod.tomsk.ru/uploads/34629/1274034986/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изаны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http://s48.radikal.ru/i119/1010/5e/31c96a5b223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кат «Всё для фронта, всё для победы!»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http://s007.radikal.ru/i300/1011/51/7d17f075434d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кат «Смерть немецким оккупантам»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http://www.davno.ru/posters/1942/img/poster-1942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естская крепость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http://www.vkinobudke.ru/uploads/posts/2010-11/1289407185_12_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шисты и советские женщины и дети - 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http://young.rzd.ru/dbmm/images/41/4080/11965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й на реке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img1.liveinternet.ru/images/foto/b/2/151/2009151/f_983516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ковое сражение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static.diary.ru/userdir/2/7/7/5/277573/4135620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мецкие офицеры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s51.radikal.ru/i131/1008/00/efaf29245e9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ва за Смоленск, 1941 год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http://img0.liveinternet.ru/images/attach/c/2/65/396/65396297_1287263467_okop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градская битва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http://www.print.spb.ru/img/wysiwyg/orders/kutuzov/stalingrad/59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солдата - http://sakhvesti.ru/p/gubved_0402201014320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- http://objb.altapress.ru/picture/cram_in/540/2605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лин - http://www.graphiste-webdesigner.fr/abecedaire/diaporamas/images/p/photos/drapeau_russ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Победы - http://photobucket.com/albums/o257/Lesnoy/victory_day_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ированная открытка «9МАЯ»  - http://gifzona.ru/i/9/9_may_18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"/>
          <p:cNvPicPr/>
          <p:nvPr/>
        </p:nvPicPr>
        <p:blipFill>
          <a:blip r:embed="rId1"/>
          <a:stretch/>
        </p:blipFill>
        <p:spPr>
          <a:xfrm>
            <a:off x="179280" y="-33480"/>
            <a:ext cx="88203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59:21Z</dcterms:created>
  <dc:creator>Admin</dc:creator>
  <dc:description/>
  <dc:language>en-US</dc:language>
  <cp:lastModifiedBy>Артём</cp:lastModifiedBy>
  <dcterms:modified xsi:type="dcterms:W3CDTF">2014-11-05T18:42:11Z</dcterms:modified>
  <cp:revision>63</cp:revision>
  <dc:subject/>
  <dc:title>Слайд 1</dc:title>
</cp:coreProperties>
</file>